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38A-0055-401B-A168-E347A680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D16-B5BA-46E2-AAFB-6E382511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BF0-5E2B-41A7-8B44-9BD1C9E0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E21-B2A2-4178-91DD-1BA3FF4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1E0-6A8D-42BA-BD6D-A0D6FDD5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DE2-6ED8-418E-AF32-399CADE8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B58-6DDD-4AD6-8303-80F88F68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EEE-3B52-4C04-B99D-4DF3A069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2A8-3186-40D6-BA86-919C8BCB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636-C242-4918-B6BF-C8002C5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786-2F3F-49E5-A105-FC0C834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29C-DFC2-4F45-9562-670A926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AC5B-4810-430F-A175-01F693C2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1835280" cy="151164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981000"/>
            <a:ext cx="626436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28000" y="404640"/>
            <a:ext cx="1116000" cy="37450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4149720"/>
            <a:ext cx="21600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5084640"/>
            <a:ext cx="684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429000"/>
            <a:ext cx="2232000" cy="2664000"/>
          </a:xfrm>
          <a:prstGeom prst="ellipse">
            <a:avLst/>
          </a:prstGeom>
          <a:solidFill>
            <a:srgbClr val="17e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365720"/>
            <a:ext cx="50328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63640" y="3429000"/>
            <a:ext cx="0" cy="93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653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4941720"/>
            <a:ext cx="0" cy="100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4360" y="4653000"/>
            <a:ext cx="86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950080"/>
            <a:ext cx="3348000" cy="765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43480" y="452916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165720"/>
            <a:ext cx="1871640" cy="69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b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6381720"/>
            <a:ext cx="133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1700280"/>
            <a:ext cx="216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1873080" cy="144360"/>
          </a:xfrm>
          <a:prstGeom prst="ellipse">
            <a:avLst/>
          </a:prstGeom>
          <a:solidFill>
            <a:srgbClr val="17e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95640" y="59500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404640"/>
            <a:ext cx="2156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276640"/>
            <a:ext cx="144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1895760" cy="99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916360" y="1989000"/>
            <a:ext cx="865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98900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84000" y="2133720"/>
            <a:ext cx="79236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79280" y="3716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627280" y="2133720"/>
            <a:ext cx="936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920" y="386064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547280" y="414972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4076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ilm"/>
          <p:cNvSpPr/>
          <p:nvPr/>
        </p:nvSpPr>
        <p:spPr>
          <a:xfrm rot="5400000">
            <a:off x="5010480" y="397440"/>
            <a:ext cx="1008000" cy="289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55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7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184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421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27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3213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386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17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20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17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1989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1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20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184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515772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604360" y="5300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32720" y="342900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4149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2781360"/>
            <a:ext cx="192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ewage system that takes the dirty stuff out and separates the clean water in a big bucket. The dirty water  will go to the rubbis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852640"/>
            <a:ext cx="288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27664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ning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40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pa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6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620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48000" y="40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20:24Z</dcterms:created>
  <dc:creator>Primary School</dc:creator>
  <dc:description/>
  <dc:language>en-US</dc:language>
  <cp:lastModifiedBy>Primary School</cp:lastModifiedBy>
  <dcterms:modified xsi:type="dcterms:W3CDTF">2009-06-10T00:47:18Z</dcterms:modified>
  <cp:revision>3</cp:revision>
  <dc:subject/>
  <dc:title>Slide 1</dc:title>
</cp:coreProperties>
</file>